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4E9A-7E81-4DD3-8398-80B1773374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863-0EC3-4C44-8C93-96EC7E74D0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99F9-89B9-4E18-B3A7-30C6F6448C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F7D-8204-4452-AEE0-D4949699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B20-E49F-46B9-B730-687359DA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413-9AF4-45FB-BD50-EF92FFD8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E4F-A060-4A7A-A38E-D59E26D0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9F1-5058-4F69-9FFC-F8D478B7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A66-E262-495C-B583-2DA42E77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2C6-27F1-48F5-B21E-2691ED17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D39-1B37-4ECF-B6F4-C21F6DA6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BFB-0BB3-4C8A-A19E-A33BD073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406-571B-44B4-89E5-E1F8DF99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061-80FC-455D-B277-3AF211BD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C7F-3E87-4358-991C-1A349780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D664-8FB6-4043-9D4F-91D2E7FD2C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assé Composé avec </a:t>
            </a:r>
            <a:r>
              <a:rPr b="1" lang="en-GB" sz="3600" spc="-1" strike="noStrike">
                <a:solidFill>
                  <a:srgbClr val="ff0000"/>
                </a:solidFill>
                <a:latin typeface="Comic Sans MS"/>
              </a:rPr>
              <a:t>Êtr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 already know how to form the Passé Composé tense.  Here is a reminder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819520" y="5638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648320" y="5638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038480" y="62182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181480" y="6172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st partici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21932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990720" y="59436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jugation of avo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91440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1143000" y="2971800"/>
            <a:ext cx="670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cc00ff"/>
                </a:solidFill>
                <a:latin typeface="Comic Sans MS"/>
              </a:rPr>
              <a:t>present tense of Avo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600200" y="30481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143000" y="35812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n add th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past participl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verb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want to put into the pa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762120" y="4648320"/>
            <a:ext cx="69339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g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l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regardé</a:t>
            </a:r>
            <a:r>
              <a:rPr b="0" lang="en-GB" sz="26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ous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vons 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oué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n you remember what to do?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71640" y="2133720"/>
            <a:ext cx="676908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l est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89548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62940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6483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1219320" y="1676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066680" y="1600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oose the correct past particip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ls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lles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809880" y="47242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m</a:t>
            </a:r>
            <a:r>
              <a:rPr b="1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ppelle Isabelle.  Je sui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us (m.pl) somm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acques et Pierre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u (f) es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. Bartley, vous êt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066680" y="10666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lut, je suis Nadia.  Samedi ma mère et moi somm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809880" y="47242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ls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BU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reflexive verbs use the present tense of </a:t>
            </a: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Êtr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instead.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. </a:t>
            </a: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Je me suis réveillé à huit heures.</a:t>
            </a: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A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one group of 16 verbs also use </a:t>
            </a: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Êtr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o form the passé composé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MOS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verbs use </a:t>
            </a: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Avoir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to form the passé composé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2362320" y="5105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e is that l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75588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886200" y="5715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anya et Nicole, vous êt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809880" y="47242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éodore et sa sœur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066680" y="10666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onjour, je m</a:t>
            </a:r>
            <a:r>
              <a:rPr b="1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ppelle Thomas.  Ma copine est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066680" y="10666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man, Melinda et Brandon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10"/>
          <p:cNvSpPr txBox="1"/>
          <p:nvPr/>
        </p:nvSpPr>
        <p:spPr>
          <a:xfrm>
            <a:off x="1143000" y="762120"/>
            <a:ext cx="6705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Félicitation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st of Verbs which use Être to form their Passé Composé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veni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n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veni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l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aît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onte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scendre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ster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ntr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orti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tour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omber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ntr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rr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ourir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art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828800" y="60199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914400" y="5257800"/>
            <a:ext cx="746748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se verbs are usually known as t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R &amp; MRS VAN DER TRAMP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verb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like to think of them as the “house” verb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4 Marcador de contenido" descr="maison.jpg"/>
          <p:cNvPicPr/>
          <p:nvPr/>
        </p:nvPicPr>
        <p:blipFill>
          <a:blip r:embed="rId1"/>
          <a:stretch/>
        </p:blipFill>
        <p:spPr>
          <a:xfrm>
            <a:off x="1523880" y="1449360"/>
            <a:ext cx="6021360" cy="5408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mment conjugues-tu le verb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Être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u présen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22096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/Elle/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s/Ell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76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u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m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ê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 participe passé (pp) avec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Êt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Pierre est </a:t>
            </a:r>
            <a:r>
              <a:rPr b="1" lang="es-ES" sz="3200" spc="-1" strike="noStrike">
                <a:solidFill>
                  <a:srgbClr val="000000"/>
                </a:solidFill>
                <a:latin typeface="Lucida Sans Unicode"/>
              </a:rPr>
              <a:t>arrivé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 au collège a huit heures et quart. Par contre, Anne est </a:t>
            </a:r>
            <a:r>
              <a:rPr b="1" lang="es-ES" sz="3200" spc="-1" strike="noStrike">
                <a:solidFill>
                  <a:srgbClr val="000000"/>
                </a:solidFill>
                <a:latin typeface="Lucida Sans Unicode"/>
              </a:rPr>
              <a:t>arrivée 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en retard. Ils sont </a:t>
            </a:r>
            <a:r>
              <a:rPr b="1" lang="es-ES" sz="3200" spc="-1" strike="noStrike">
                <a:solidFill>
                  <a:srgbClr val="000000"/>
                </a:solidFill>
                <a:latin typeface="Lucida Sans Unicode"/>
              </a:rPr>
              <a:t>rentrés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 à la maison à trois he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Lucida Sans Unicode"/>
              </a:rPr>
              <a:t>Qu’est-ce que tu observ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9"/>
          <p:cNvSpPr/>
          <p:nvPr/>
        </p:nvSpPr>
        <p:spPr>
          <a:xfrm>
            <a:off x="914400" y="609480"/>
            <a:ext cx="739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en the passé composé is formed with Être, the past participle behaves like an adjective.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990720" y="16765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f you have a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feminine subj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he “doer” of the verb), you must also have a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femin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ast participl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914400" y="2971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90512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le est allé     (femini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7339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066680" y="45720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ast partici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also b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9907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1828800" y="5486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 sont allé       (masculine plur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3505320" y="5486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752480" y="2971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est allé    (masculi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24382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2270160" y="59436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82880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les sont allé      (feminine plur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3962520" y="61722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38098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re is a table showing all the agreemen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447920"/>
          <a:ext cx="7086600" cy="4692600"/>
        </p:xfrm>
        <a:graphic>
          <a:graphicData uri="http://schemas.openxmlformats.org/drawingml/2006/table">
            <a:tbl>
              <a:tblPr/>
              <a:tblGrid>
                <a:gridCol w="1295280"/>
                <a:gridCol w="1828800"/>
                <a:gridCol w="39625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u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t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i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el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nou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mm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s)(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vou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ê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)(es)(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i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e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re are the past participles of some of the </a:t>
            </a:r>
            <a:r>
              <a:rPr b="1" lang="ja-JP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Être</a:t>
            </a:r>
            <a:r>
              <a:rPr b="1" lang="ja-JP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verb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447920"/>
          <a:ext cx="8229600" cy="5303880"/>
        </p:xfrm>
        <a:graphic>
          <a:graphicData uri="http://schemas.openxmlformats.org/drawingml/2006/table">
            <a:tbl>
              <a:tblPr/>
              <a:tblGrid>
                <a:gridCol w="2743200"/>
                <a:gridCol w="2895480"/>
                <a:gridCol w="259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English</a:t>
                      </a:r>
                      <a:r>
                        <a:rPr b="1" lang="en-GB" sz="36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t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tr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went b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t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tr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en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u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c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t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stay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r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rti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went 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r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rti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le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tour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tourn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etur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l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w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mb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f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3:27:12Z</dcterms:created>
  <dc:creator>B Cheded</dc:creator>
  <dc:description/>
  <dc:language>en-US</dc:language>
  <cp:lastModifiedBy>Biega, Sarah</cp:lastModifiedBy>
  <dcterms:modified xsi:type="dcterms:W3CDTF">2012-11-23T16:06:18Z</dcterms:modified>
  <cp:revision>20</cp:revision>
  <dc:subject/>
  <dc:title>The Passé Composé with Etre</dc:title>
</cp:coreProperties>
</file>